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36A5A7-70E1-482E-8AEF-33492CA0C8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485B96-FF4D-429F-AD24-C769335BAC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05DAB4-B3F0-403A-A6FD-577C9A69C9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95FA4D-2F42-4268-9C22-577EFC9CF9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8C8973-A8A8-4A48-BC7F-EFE082DE5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CC2879-194E-49C2-8F4A-C2637354DD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3761AC-46CD-4212-9E0C-150F13FEC1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39B1CA-175B-4D1A-AFEC-5680A634F3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192C67-C534-4E1C-ABA5-719E5670E9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84EDB-C77A-46DB-8528-55B657533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959D4-A7A8-4A05-8453-94AD50A65B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0C572-DE1A-4468-815B-396AA2AD0E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941B3-4F47-478E-88BF-330046F398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nytimes.com/2010/02/16/world/middleeast/16diplo.html" TargetMode="External"/><Relationship Id="rId2" Type="http://schemas.openxmlformats.org/officeDocument/2006/relationships/hyperlink" Target="http://video.foxnews.com/v/4020033/will-iran-start-arms-race" TargetMode="External"/><Relationship Id="rId3" Type="http://schemas.openxmlformats.org/officeDocument/2006/relationships/hyperlink" Target="http://learning.blogs.nytimes.com/2009/02/13/talkin-bout-a-revolution/"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sepoli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r. Rush</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 Muski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o is Majarie Satrapi?</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would you describe the child Marji to whom we’re introduced at the beginning of </a:t>
            </a:r>
            <a:r>
              <a:rPr b="1" lang="en-US" sz="3200" spc="-1" strike="noStrike">
                <a:solidFill>
                  <a:srgbClr val="000000"/>
                </a:solidFill>
                <a:latin typeface="Times New Roman"/>
              </a:rPr>
              <a:t>Persepolis</a:t>
            </a:r>
            <a:r>
              <a:rPr b="0" lang="en-US" sz="3200" spc="-1" strike="noStrike">
                <a:solidFill>
                  <a:srgbClr val="000000"/>
                </a:solidFill>
                <a:latin typeface="Times New Roman"/>
              </a:rPr>
              <a:t>?  To what extent is she like children anywhere? To what extent is she different from the child that you were or the children that you grew up wit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le of the West</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urn to page 21. </a:t>
            </a: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ritish want the Shah out of power because they want oil. They say to Reza “Give us the oil and we’ll take care of the rest.  </a:t>
            </a: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responsibility does the West (Britain, US, etc.) have in what happens in Iran today?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p of the Middle East</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p of the Middle Eas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Heroes</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 page 51, the question is raised about what should be done to the torturers.  What do you think should be done to those who torture- should they be forgiven or punished?  Why?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scow</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s uncle has to leave the country to go to the Soviet Union.  Yet, he risks punishment to return home.  If you were kicked out of the United States, would you risk an arrest to return home?  Why or why no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mily Tree</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elop a family tree for Marjorie.  Write a short description of their political involvement.  How do you think her family influences her thinking?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eep</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is chapter, she describes two points of view of the Islamic Revolution from her uncle and her dad.  Write a brief description with 3-5 bullet points of each person.  Explain which one you suppor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ip</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 page 75, she describes two types of Women and 2 types of men.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cribe each of these in 5 words or les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ich would you be?  Wh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Wine</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are invited to a party with Marjorie’s family where there is dancing and people are dressed in Western cloth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jane’s mother quotes her own father’s saying: “When a big wave comes, lower your head and let it pass” (94).  To what extent does what Satrapi calls this Persian philosophy of resignation explain secular citizens’ acceptance of Islamic rul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we will Do</a:t>
            </a:r>
            <a:endParaRPr b="0" lang="en-US" sz="4400" spc="-1" strike="noStrike">
              <a:solidFill>
                <a:srgbClr val="000000"/>
              </a:solidFill>
              <a:latin typeface="Times New Roman"/>
            </a:endParaRPr>
          </a:p>
        </p:txBody>
      </p:sp>
      <p:sp>
        <p:nvSpPr>
          <p:cNvPr id="4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ives</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e/ Evaluate the role of the US in Iran </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yze the causes of the Islamic Revolution</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yze causes of oppression by the Shah/ Islamic Fundamentalists</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role of individuals</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5"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sk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 History of Ira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o is the author?</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to read a Graphic Nove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Chapter 1.</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llins Writing</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work:  Rea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p of the Middle East</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cial Class</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does the book suggest about social class in Iranian society, especially, for example, in the story of the courtship between the family’s maid and their neighbor (34-37) or the distribution of keys to paradise to boys drafted into the army (99-10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role of Religion?</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does the book suggest about the role of religion in Iranian culture, especially in the lives of people like Marjane’s famil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le of Education</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role does the educational system play in post-revolutionary Ira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enage Rebellion</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forms does teenage rebellion take among Marjane and her friends?  To what extent are they like teenagers everywhere? How are they differ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should we Care about Iran?</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lary Clint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1"/>
              </a:rPr>
              <a:t>http://www.nytimes.com/2010/02/16/world/middleeast/16diplo.htm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l Iran start arms rac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2"/>
              </a:rPr>
              <a:t>http://video.foxnews.com/v/4020033/will-iran-start-arms-rac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lkin bout a revolut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3"/>
              </a:rPr>
              <a:t>http://learning.blogs.nytimes.com/2009/02/13/talkin-bout-a-revolution/</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y Term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ltural Revoluti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sian Empir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h</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za</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nc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is the book called Persepoli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does Satrapi call her book </a:t>
            </a:r>
            <a:r>
              <a:rPr b="1" lang="en-US" sz="3200" spc="-1" strike="noStrike">
                <a:solidFill>
                  <a:srgbClr val="000000"/>
                </a:solidFill>
                <a:latin typeface="Times New Roman"/>
              </a:rPr>
              <a:t>Persepolis </a:t>
            </a:r>
            <a:r>
              <a:rPr b="0" lang="en-US" sz="3200" spc="-1" strike="noStrike">
                <a:solidFill>
                  <a:srgbClr val="000000"/>
                </a:solidFill>
                <a:latin typeface="Times New Roman"/>
              </a:rPr>
              <a:t>instead of something like </a:t>
            </a:r>
            <a:r>
              <a:rPr b="1" lang="en-US" sz="3200" spc="-1" strike="noStrike">
                <a:solidFill>
                  <a:srgbClr val="000000"/>
                </a:solidFill>
                <a:latin typeface="Times New Roman"/>
              </a:rPr>
              <a:t>Growing Up in Iran</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ticipation Guide from Introducation</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___ 1.  Iran has always been rich.</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___ 2.  Iran is the site of one of the great Ancient empires- the Persian Empir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___ 3.  The Iranians fought against Germany in World War II.</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___ 4.  The Americans overthrew the Iranian government in the 1950’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pter 2: The Bicycle</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 page 10, Marjorie’s friend says “The Revolution is like a bicycle.  When its wheels don’t turn, it falls.”  What does she mean by thi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a revolution a good thing?  Why or why no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pter 2:  The Bicylce</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urn to page 11.</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Iran’s history?  Who controlled Iran?  How might this history impact Ira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pter 2: The Bicycle</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the end of the chapter, Marjane asks to demonstrate against the government.  Would you let your child demonstrate and be “a part of history” or would you make her stay at home for safety’s sake?</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lain your position</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3 facts from the story</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 1 counterargument and why you disagre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1T21:27:27Z</dcterms:created>
  <dc:creator>Rick Davis</dc:creator>
  <dc:description/>
  <dc:language>en-US</dc:language>
  <cp:lastModifiedBy>Rick Davis</cp:lastModifiedBy>
  <dcterms:modified xsi:type="dcterms:W3CDTF">2011-02-24T00:28:04Z</dcterms:modified>
  <cp:revision>4</cp:revision>
  <dc:subject/>
  <dc:title>Persepolis</dc:title>
</cp:coreProperties>
</file>